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30B2-86ED-4996-8967-82847A6BC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494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FD23-AE78-4F5B-9D3C-9BA56C734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52A9-B385-4B9B-9387-BA6F4802C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C07D-C742-4AF6-A153-0FBAFDBB1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25BA-B117-40AD-8E65-6C3413F83A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9F5D-4FB9-4A36-996D-B0A354CFD7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B794-B696-4A0B-9431-B8C5CC1B27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165E-8CC7-45D4-8306-3FECA7E8D2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DF61-E4DD-4FB3-9FEB-EFCC71B68F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DA96-BD88-40FC-8A68-702B25AE21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4799-37CB-4033-9F33-6E2B98D81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72C7-5047-454D-9151-2871D9650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2B1E-FAFE-4A22-8EE0-DA9CFC840B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E18A-A04A-4607-AA44-B203AC33BE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494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2797-5CE5-4274-8633-8A5E27D77A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24CC-AA0F-486F-A131-A746318C52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FAFE-3CF7-48EA-ABAD-397C8B564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6D9F-BB82-4564-8077-67D855FD6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0CA8-A25D-4074-AFFB-71E249786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46E1-F699-4C57-BFD8-85CE08ABC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1152-FDBC-4406-81E7-DE86329D5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4E64-17E3-4C3F-A95A-3CB974060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E3D8-BA3F-462A-B97E-7B9CA44F7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335C-605A-4F0C-9BE2-BEA15D2B2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63120" y="6620040"/>
            <a:ext cx="390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E763-C523-4E0C-A1FF-9661FC47BB9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295280"/>
            <a:ext cx="8229600" cy="0"/>
          </a:xfrm>
          <a:prstGeom prst="line">
            <a:avLst/>
          </a:prstGeom>
          <a:ln w="38160">
            <a:solidFill>
              <a:srgbClr val="116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4A92-4C8A-4CF4-9FCF-F2786717B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berinfrastructure for Air Quality Management (CyAi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2457360"/>
            <a:ext cx="9144000" cy="37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Dy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Steve Ludewi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fan Falk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a Shank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hawn McClu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lynis Loug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ma Technology, Inc.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rop Grumman,                                    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ado State University,                              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elle Memorial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ed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th Science Information Partners Air Quality Work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ly 21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15400" y="6643800"/>
            <a:ext cx="11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10114-39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752480"/>
            <a:ext cx="8229600" cy="0"/>
          </a:xfrm>
          <a:prstGeom prst="line">
            <a:avLst/>
          </a:prstGeom>
          <a:ln w="38160">
            <a:solidFill>
              <a:srgbClr val="116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assess limitations and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observations and common topics are being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DD22-D0F6-4DAA-A631-6BC93B558C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and/o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 and inter-organiz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nd user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2CBA-E0BC-4197-B2AF-EA781FD7CB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9720" y="5600880"/>
            <a:ext cx="7324560" cy="97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ttle attention has been paid to establishing common ontological protocol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46240" y="1417680"/>
            <a:ext cx="3202200" cy="41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802B-20A1-4ECF-A14F-38935DFFC0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1120" y="5152680"/>
            <a:ext cx="7781760" cy="97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fficult to understand the best route to go with different formats and access methods…what are the best practices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5122"/>
          <a:stretch/>
        </p:blipFill>
        <p:spPr>
          <a:xfrm>
            <a:off x="250920" y="1590840"/>
            <a:ext cx="421632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54520" y="1590840"/>
            <a:ext cx="4071960" cy="31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F832-0AE7-4B0D-8C50-EE432454BE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4857840"/>
            <a:ext cx="8229600" cy="13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 control of issues combined with a lengthy planning process and resource constraints are preventing more widespread data sharin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.There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emphasis on data sharing from top management level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050" t="0" r="9618" b="0"/>
          <a:stretch/>
        </p:blipFill>
        <p:spPr>
          <a:xfrm>
            <a:off x="457200" y="1609560"/>
            <a:ext cx="371484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76760" y="1619280"/>
            <a:ext cx="371016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B7F8-80BF-43D7-9AF9-FE93DC69C2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1520" y="4657680"/>
            <a:ext cx="82296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.Limitations right now are conventions/standards – can’t ask people to spend time to participate in creating conventio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operability burn-out … ‘don’t ask me to do more things’ and ‘things are always changing.’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 want to share data online but don’t know where to star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504" t="0" r="11013" b="0"/>
          <a:stretch/>
        </p:blipFill>
        <p:spPr>
          <a:xfrm>
            <a:off x="504720" y="1565280"/>
            <a:ext cx="3834000" cy="295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17134" t="0" r="6819" b="0"/>
          <a:stretch/>
        </p:blipFill>
        <p:spPr>
          <a:xfrm>
            <a:off x="4829040" y="1576440"/>
            <a:ext cx="36799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0B50-F3AC-410A-99B5-C1574EF3D3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liminary report summarizing assessment results, gaps, and limitations in the current cyberinfrastructure as well as potential action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rkshop to review and obtain feedback on the assessments, gaps, future vision, and path ahead.  (October 2010 in Research Triangle Par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nal assessment and plan, including a prioritized list of action items to close the identified gaps and improve both data exchange and collaboration in the air quality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C053-70E0-479E-9BB6-09EF821E7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rry Ke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2) 564-11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ating.terry@epa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yAir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 Dye, Steve Ludewig, Stefan Falke, Uma Shankar, Shawn McClure, Glynis L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ww.cyair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2FBC-C0A7-492E-8BBE-47368013A6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T = Atmospheric Model Evaluatio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S = Air Qualit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L = Air Resources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NET = Clean Air Status and Trend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AQ = Community Multiscale Air Qual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S = Environmental Impac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SS = Global Earth Observation System of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 DISC = Goddard Earth Sciences Data and Information Services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AP = Hemispheric Transport of Air Pollu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SPLIT = Hybrid Single-Particle Lagrangian Integrated Traj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DN = Integrated Atmospheric Deposi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IS = Meteorological Assimilation Data Inges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SGEI = Networked Environmental Information System for Global Emissions Inven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ADS = National Operational Model Archive &amp; Distribu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IG = Remote Sensing Information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I = Visualization Environment for Rich Data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S = Visibility Information Exchange Web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2D38-3C18-41AA-A6A5-B0DE7AEAC876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057640" y="866880"/>
            <a:ext cx="408636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0" b="13068"/>
          <a:stretch/>
        </p:blipFill>
        <p:spPr>
          <a:xfrm>
            <a:off x="0" y="0"/>
            <a:ext cx="62769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76040" y="1400040"/>
            <a:ext cx="6048360" cy="41846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nterface to CERCLIS is a search form offering numerous points of entry into this massive database … it is not particularly welcoming, it is text heavy, it does not encourage browsing and, although a lot of information can be extracted, it does not easily produce understan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reminds me of my dislike for shopping malls; I will enter only if I know exactly what I want and where it is so I can get in and out as quickly as possible.  My initial curiosity about Superfund was dampened by the data deluge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oke Singer, Artist - www.bsing.net/blo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43084" t="45330" r="37551" b="16236"/>
          <a:stretch/>
        </p:blipFill>
        <p:spPr>
          <a:xfrm>
            <a:off x="733320" y="1406520"/>
            <a:ext cx="2105280" cy="27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C17E-473B-44E2-AB2C-B073F73B6C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17875" r="20091" b="6321"/>
          <a:stretch/>
        </p:blipFill>
        <p:spPr>
          <a:xfrm>
            <a:off x="0" y="961920"/>
            <a:ext cx="9144000" cy="542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3307-25E6-413C-8E07-61C7F8C713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Air projec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 for Cy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43240" y="3298680"/>
            <a:ext cx="4867560" cy="324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72CC-3DAE-49BC-A03B-1C3A3E5C2A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Air Project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planning, development, and coordination of systems to help the air quality community better utilize air quality informatio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spcBef>
                <a:spcPts val="499"/>
              </a:spcBef>
              <a:buNone/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sues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Workshop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commend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four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Forecasting and Publ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Trends and Ev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Mode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Inventory Development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DE23-5390-4824-B12D-E49485A037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ment Tasks:                                      Assess Data Provid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229600" cy="51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iders are being interviewed to assess a variety of t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inclu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s of data/information do you sh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r current systems for sha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echnical challenges ex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rganizational challenges ex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what organizations do you exchange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willing to participate in a collaborative air quality commun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iders interviewed include MADIS, ARL, HYSPLIT, and NOMADS (NOAA); VIEWS, GES DISC and Giovanni (NASA); AIRNow, RSIG, CMAQ, IADN, AQS, EIS, VERDI, AMET, HTAP, and CASTNET (EPA); DataFed, and NEISG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BAA3-6249-4435-A8B3-6DD047049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ment Task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 Data User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users are being interviewed to assess user needs and issues, data access methods, and data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s of data/information do you u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ata/information challenges do you typicall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, how would you like to acquire data/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ould EPA or other organizations make data/information access easi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willing to participate in a community to share experiences, comment on plans, create prototypes, and help other organiz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users interviewed include representatives of government agencies, educational institutions, and private sector fi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E5E6-B956-48A0-90B4-5986EDC4AC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ment Task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 Data Provider Characteris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8112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 data provider interviews, analyses are being performed to identify and characterize the current state of data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 comments are used, along with a review of online resources and services published by the data prov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ubsetting (granula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/connections with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4545-E80A-40A8-9063-FE75F07976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on for Cy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vision” of CyAir was draf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racteristic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Easy, easy, easy ... to learn about, acquire, and use data and metadata.  A suite of accepted standards, methods, guidelines, code samples, and utilities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A shared understanding exists regarding the path and methods to acquire and use data, and the benefits of community participation.  Efforts are aligned with ongoing work, including the principles of GEO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Agencies align funding and incentives to support development and promote data ex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0FDE-01E9-4537-A620-58FF0B81E8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1:20:02Z</dcterms:created>
  <dc:creator> </dc:creator>
  <dc:description/>
  <dc:language>en-US</dc:language>
  <cp:lastModifiedBy>Tim Dye</cp:lastModifiedBy>
  <dcterms:modified xsi:type="dcterms:W3CDTF">2010-07-21T12:47:18Z</dcterms:modified>
  <cp:revision>58</cp:revision>
  <dc:subject/>
  <dc:title>This is My Presentation</dc:title>
</cp:coreProperties>
</file>